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8A9-BB2F-4B94-BB45-5F907A43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1A5-E40B-46D4-922C-741AAE3C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FB7-AD14-42FE-B099-95233D36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313-A713-4A84-81CD-86DA6670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4D52-27DF-4256-A05D-8C8E6B4C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EDE5-882A-45F7-B6F2-AA9D3651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89E-AAF5-480C-87B1-A706E564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36F-C301-451F-BA06-70A58CF4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5B9-7413-4248-935E-02CACF8A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48E7-D199-497D-B302-7FAC533D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8C1-739E-4150-AA7C-C23CF229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DCB-6B1F-42E5-85F7-F2F242D2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219F-9558-40E4-9204-B5A8DAE3B4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Лекови који делују на респираторни систем у трудноћ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и лакт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Компликациј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ца се рађају пре терм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ња порођајна тежи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онатални морталитет повећ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гиналне хемораг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ксем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дукован и компликован порођа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т мајке (обично услед тензионог пнеумоторак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руднице са тешким обликом астме могу имати нормалну трудноћу и нормалан порођа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мају чешће спонтане побачаје у односу на здраве трудниц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ца из ових трудноћа немају учесталије конгениталне малформациј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Утицај трудноће на астм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уднице са благом или умереном астмом имају побољшање тока астме у последњем ромесечј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 више од једне трећине ово побољшање је праћено мањим или већим погоршањем после порођај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ене са тежим облицима астме могу имати више проблема у трудноћ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ок астме код исте болеснице је најчешће идентичан у понављаним трудноћа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чење астме у трудноћ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мпакомимет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икокортикои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офилински препар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имарна превенција у аст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дукација труд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унопрофилакса и имуно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ј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храна новорођен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егавање алергена у кућ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ергени животињске дла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ергени бубашва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ен и буђ у атмосфе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уђ у затвореном просто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фек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ушењ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дукација трудниц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етовати труднице како да се хран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ину о свом здрављу и избегавају штетне навике (дуван, каф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нирати порођај у време смањене концетрације алерге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ојењ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учити мајке о значају дојења до навршеног 8-ог месеца старости детета и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ти крајњи хидролизат крављег млека за исхрану новорођенч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схрана новорођенчет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врсту храну увести 4-ог месе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је, рибу, орах, кикирики тек после дванаестог месец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збегавање алергена у кућ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ати постељину и прекриваче једном недељ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ти специјалну постељину (навлаке за јастуке и душеке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менити намештај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 потреби уклонити тепихе, пре свега у спаваћој соби уколико је дете преосетљиво на алергене кућне прашин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лергени животињске дла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лонити животиње из куће и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 спаваће собе уколико је дете преосетљиво на животињску длак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3"/>
          <p:cNvSpPr/>
          <p:nvPr/>
        </p:nvSpPr>
        <p:spPr>
          <a:xfrm>
            <a:off x="5072040" y="333360"/>
            <a:ext cx="3786120" cy="20239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cto homini et erudito vivere est cogit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xtremis malis extrema remed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лергени бубашва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истити кућу често и темељ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ти инсектици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олен и буђ у атмосфер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14316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творити прозоре и врата и остати у кући када је концетрација полена и буђи у ваздуху вис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 време започети лечење инфекције горњих и доњих дисајних путе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нити мере превенције за појаву инфекциј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ушењ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етовати пацијента, као и родитеље оболеле деце како да прекину са пушењем цигар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лонити се дуванског ди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екундарна превенција у аст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обе са генетском предиспозициј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обе под ризиком (радно мест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обе са генетском предиспозицијо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о пратити децу из породица у којима оба родитеља болују од астме или неког другог алергијског обољења плућ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тивно тражити особе под ризик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обе под ризиком (радно мест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32857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итивање кожне преосетљивости и одређивање укупног и специфичног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Ig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ерцијарна превенција у аст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дукација пациј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чка а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егавање алерг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бегавање инфе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тивна медикаментозна 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фична имунотерап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дукација пацијен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познати пацијента са природом боле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акторима ризика за настанак погоршањ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учити га како правилно да користи инхалациону терапију и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peak-flow met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хватити разлику између лекова за брзо отклањање симптома и лекова за дуготрајну превенциј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Физичка активно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етовати пацијента да не избегава физичку а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јаву симптома да спречи инхалацијама кратко делујућих бета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агониста или натријум-кромогликатом пре интезивног физичког напо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13"/>
          <p:cNvSpPr/>
          <p:nvPr/>
        </p:nvSpPr>
        <p:spPr>
          <a:xfrm>
            <a:off x="5072040" y="333360"/>
            <a:ext cx="3786120" cy="238140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Ученом и образованом човеку живети значи мислити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У крајњој опасности и крајња средств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мунопрофилакса и имун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кцинација против грипа се препоручује трудницама са хроничном астмом и може се изводити током 2 и 3 тромесечја трудноћ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ецифична имунотерапија се такође сматра безбедном код болесница код којих је већ била у ток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мунотерапију не би требало отпочињати у трудноћи због ризика од анафилактичког ш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чење акутног погоршања астме у трудноћ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чности које садрже глукоз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халирање раствора бета2 агон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бкутано давање бета2 агон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равенски метилпреднизол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пратропијум бром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ерапија у току порођа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халирање бета2-агон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равенски теофил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равенски или интрамускуларно хидрокортиз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ојењ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2714760"/>
            <a:ext cx="822960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ови који се користе у терапији астме ретко су штетни за де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 би у млеку била најнижа концетрација лека, мајке које доје могу узети било који неопходан лек 15 минута после подо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кови које треба избегавати у трудница и дојиљ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спир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та адренергички блок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парати који садрже ј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стероидни антиинфламаторн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стагланди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ептомицин и канамиц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лфонами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трациклини и остали лекови који мугу бити штетни за пл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ЕРАПИЈА ТУБЕРКУЛОЗЕ У ТРУДНОЋ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нтитуберкулотици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(категорија ризика 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“В”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“С”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јихова примена (изузев стрептомицина) током трудноће не повећава инциденцу конгениталних аномалија, мртворођености или превремених порођаја у односу на општу популациј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к избора за лечење туберкулозе у трудноћи је изониазид у комбинацији са рифампицином и етамбутол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су контраиндиковани у периоду лактациј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 дужој употреби изониазида препоручују се периодични прегледи одојчета у односу на симптоме периферног неуритиса или хепатити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во тромесечје трудно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ептомицин контраиндиков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БК позитивне – рифампицин + изониазид + етамбутол (пиразинами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БК негативне – чекати до четвртог месеца трудноће, пратити. Међутим уколико су промене врло егзистентне са активном туберкулозом, може се започети лече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руго тромесечје трудно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о нема посебних проблема дати рифампицин + изониазид + етамбуто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реће тромесечје трудно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85732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ифампицин + изониазид + етамбут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ини ризик је иктеру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атити и укупан билирубин једампут у 10 д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олоко постоји биохемијски поремећај у крви, треба обуставити изониаз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Лекови за лечење респираторног система - трудно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тегорија Б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омолин натрију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пратропиум бром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бута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нтелука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докром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фирлукаст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атегорија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лбутер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клометаз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удесон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лунизол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лутиказ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тапротерен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лметеро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офил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илеу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Лечење туберкулозе код жена које до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и лекови против ТБ могу се узимати истовремено са дојење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јка и одојче треба да остану заједн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ојче треба хранити дојењем на уобичајен начин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ојче треба да прими профилаксу изониазидом, а 2-3 месеца касније и вакцину 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</a:rPr>
              <a:t>BC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ГЛИКОКОРТИКОИ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У трудноћ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зликују у способности проласка кроз плацентарну баријер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низолон се 88% инактивише приликом проласка кроз плаценту, дексаметазон и бетаметазон пролазе лако непромењен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исте се системски у трудноћи само ако користи од њихове примене у мајке превазилази ризик од штетних дејстава на фету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ужа системска примена у трудноћи носи ризик од застоја интраутериног рас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пресија надбубрежне жлезде у новорођенчета обићно спонтано пролаз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 дојењ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ле примене дозе од 4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g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еднизолона, мала количина лека доспева у млеко и сматра се да није од клиничког значаја за дојенч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ће дозе могу да супримирају надбубрежну жлезду дојенче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љке и чајеви – безбедни у лактациј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љ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ли лу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умби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ен-ш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лерија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Чајев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ми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одоп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л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ипура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3286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ИНФЕКЦИЈЕ ГОРЊИХ РЕСПИРАТОРНИХ ПУТЕВА У ТРУДНОЋ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Категорија 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зата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лорфенамин (хлрорфенирам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тихистаминик избора у трудноћи (седација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лемаст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прохептад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ифенхидрамин  (дименхидрина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 високим дозама окситоцину-слични ефек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ксилам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оратад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екли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рацетамо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бупроф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атегорија Д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у трећем триместру или близу порођ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апроксе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Категорија Д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у трећем триместру или близу порођ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Категорија 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кстрометорф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нзонат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де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дрокодо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енадри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егавати у првом тримест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сеудоефедр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 бити повезан са настанком гастросхи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бегавати у првом тримест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ромфенирамин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дрокси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та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етириз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ексофенади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АСТМА И ТРУДНО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Епидемиолошки подац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чешћи медицински проблем који може компликовати трудноћ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-5% трудница болује од астм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0% трудница има неки алергијски поремећај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ене оболеле од астме обично имају погоршања непосредно пре и за време менструалног циклу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нтролисана астма може имати штетан утицај како на трудницу тако и на пло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6-09-04T10:35:22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